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1BC-6849-460B-88C8-E60D4CA8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826D-2621-4215-BCF4-EC79CD25A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9B9B-3D73-4901-8105-5FB04F55D4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9AFB7FAA-C578-493C-8708-C84E227E68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88D0-8D82-4B2C-84CD-E84C4260B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072C-B834-4768-8BB7-02274C21C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9119-918F-41B5-B84E-3B338DBB3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30B6-731A-48B1-83F5-1E845F9D1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8088-B614-481D-9EA3-7846DC958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B3DD-FD5A-434D-94E2-FCE071C97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B042-5024-4DD1-A57B-C6B6A8B9A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3F4B-854B-465D-9483-E50FC2DBB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C464-15E0-4B1C-B894-F5C9F78C9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FA0B-6740-4323-8946-AA3BFD194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0E98-4138-4659-AA8E-BFAB1860D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AE34-9D25-440F-B053-BBE0247D4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F3C7-025D-47F5-B801-45107E6A772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1763640" y="6218280"/>
            <a:ext cx="600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2499840"/>
            <a:ext cx="56246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ssion 3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gricultural Growth &amp;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Protection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ynergies and Contradictions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4332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Seminar on hot topics in agri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Bruxelles, 12-14 July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59280" y="443700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Nicholas Fre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sed on balanced allocation of 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A5F7-32B0-4738-92DD-22C6DD3D889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10"/>
          <p:cNvSpPr/>
          <p:nvPr/>
        </p:nvSpPr>
        <p:spPr>
          <a:xfrm>
            <a:off x="500040" y="857160"/>
            <a:ext cx="5572080" cy="5357880"/>
          </a:xfrm>
          <a:prstGeom prst="roundRect">
            <a:avLst>
              <a:gd name="adj" fmla="val 25963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ounded Rectangle 9"/>
          <p:cNvSpPr/>
          <p:nvPr/>
        </p:nvSpPr>
        <p:spPr>
          <a:xfrm>
            <a:off x="3429000" y="857160"/>
            <a:ext cx="5143680" cy="5357880"/>
          </a:xfrm>
          <a:custGeom>
            <a:avLst/>
            <a:gdLst>
              <a:gd name="textAreaLeft" fmla="*/ 390960 w 5143680"/>
              <a:gd name="textAreaRight" fmla="*/ 4752720 w 5143680"/>
              <a:gd name="textAreaTop" fmla="*/ 390960 h 5357880"/>
              <a:gd name="textAreaBottom" fmla="*/ 4966920 h 5357880"/>
            </a:gdLst>
            <a:ahLst/>
            <a:rect l="textAreaLeft" t="textAreaTop" r="textAreaRight" b="textAreaBottom"/>
            <a:pathLst>
              <a:path w="21600" h="22499">
                <a:moveTo>
                  <a:pt x="5608" y="0"/>
                </a:moveTo>
                <a:arcTo wR="5608" hR="5608" stAng="16200000" swAng="-5400000"/>
                <a:lnTo>
                  <a:pt x="0" y="16891"/>
                </a:lnTo>
                <a:arcTo wR="5608" hR="5608" stAng="10800000" swAng="-5400000"/>
                <a:lnTo>
                  <a:pt x="15992" y="22499"/>
                </a:lnTo>
                <a:arcTo wR="5608" hR="5608" stAng="5400000" swAng="-5400000"/>
                <a:lnTo>
                  <a:pt x="21600" y="5608"/>
                </a:lnTo>
                <a:arcTo wR="5608" hR="5608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3920" y="928800"/>
            <a:ext cx="7286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-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p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subsi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/pri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od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ool m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. f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3200" y="928800"/>
            <a:ext cx="4827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D805-8D26-49CF-A5A2-EE3DB26027A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2960" y="307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286680" y="28875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 rot="16200000">
            <a:off x="-2473920" y="3300480"/>
            <a:ext cx="55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oorest                                  Least P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 flipV="1">
            <a:off x="356040" y="2356560"/>
            <a:ext cx="1080" cy="271548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TextBox 20"/>
          <p:cNvSpPr/>
          <p:nvPr/>
        </p:nvSpPr>
        <p:spPr>
          <a:xfrm rot="16200000">
            <a:off x="5986080" y="3443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rovision      Prevention     Pro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2"/>
          <p:cNvCxnSpPr/>
          <p:nvPr/>
        </p:nvCxnSpPr>
        <p:spPr>
          <a:xfrm flipH="1" flipV="1">
            <a:off x="8786160" y="428544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Straight Arrow Connector 25"/>
          <p:cNvCxnSpPr/>
          <p:nvPr/>
        </p:nvCxnSpPr>
        <p:spPr>
          <a:xfrm flipH="1" flipV="1">
            <a:off x="8786160" y="242820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AND REFORM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facilitate access to credit as collat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allow exit from agriculture through 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benefit for land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or benefit for small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impacts on excluded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increase vulnerability of sel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D1A-768C-44A3-8E7A-0AFCA661656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FRASTRUCTUR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sts of transport/co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nsum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commercial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y-pass poores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apit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 maintenance/ deteri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736-9F2E-489C-A09F-51D9A68D03B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ICRO-CREDIT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comes crit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s income and agric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est won’t take the risk of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7AE-092E-48B4-B86D-ACF73E0192D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OP INSURANC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s investment in higher retur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to small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many successful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3C4-0D9A-4B20-AB47-D2B85888A85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PUT SUBSIDIE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ck-start pro-poor growth (eg As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benefits captured by the better-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use of in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kage across b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cash transfer to the poo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lude those without land or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83FF-F742-448D-B5EE-9B2B63E6D0E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GR/PRICE CONTROL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price 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motes foo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impact of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xed impact of high/ low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our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political inte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stabilisation role of private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1E2-73D4-4408-923E-D88B4F46ED0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UBLIC WORK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2174760"/>
            <a:ext cx="42861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useful assets/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househol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timulate labour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uld be demand- not supply-driven (NREG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multi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on-farm labour 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f”-targeting excludes those without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ow market wage rates perpetuate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t benefit is mar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101-DA84-4CC3-90AC-E5E8F1470DF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SSET TRAN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agric assets an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diver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of asset to loss/th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for training and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may be sold before investment is maxim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82C-7710-4EEB-8953-D270FCC3409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parate Policy Domains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gricultural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480" y="2174760"/>
            <a:ext cx="42116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026-FFE5-4A37-BACD-26F7790AA99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H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buy local food, stimulates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s education, health, agric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plier effects in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nger of inflation in weak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reduced value of transfer if prices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50CF-B6D0-4DE8-8D56-A2A8F9A378C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can support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health and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’l purchase is disincentive to local produ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iangular purchase may shift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may create inflation and distort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wd out private sector trade/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C6C-DC78-43F8-AAE1-6ED1CEC92D4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CHOOL MEAL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earning out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t intergenerational transmission of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ong-term quality of agric/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ndermine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s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32F3-B53D-417C-B2FA-C89FBD49C2F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RAPEUTIC FEEDING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ential for local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46D-8887-41CE-85ED-BB8C769870A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ix Point Policy Agenda”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(Devereux, 2009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680" y="1500120"/>
            <a:ext cx="82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 inputs to farmers on time and at affordable pr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engthen rural markets to stabilise commodity prices, especially of staple fo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essential rural infrastructure and enabling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ure vulnerable farmers against agricultural risk, for instance with innovative mechanisms such as weather‑indexed insurance schemes and guaranteed employment legis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away from imported food aid towards local sourcing and/or cash transfers wherever local markets and cultural contexts (specifically gender relations) permit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lare a moratorium on small‑scale ‘pilot projects’ and support permanent national social protection programmes that are integrated into broader agricultural and development poli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4A0E-4438-400C-ABD6-D2B1AB0628C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8E3D-6C84-4887-8811-88F849D508B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1A32-408D-4399-8C78-60CDE50A0C2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8552-0D0E-4E01-88D1-CF35BAF1DD6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BE5E-99A2-4A91-9431-F1FAF9ED17D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DA8-C334-43A5-AAD8-E2EA2AA653C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5210-89E7-4E7B-8241-D24AB021ABB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850E-3A09-409C-81EB-E25248703F3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John Rook</dc:creator>
  <dc:description/>
  <dc:language>en-US</dc:language>
  <cp:lastModifiedBy>x55b078</cp:lastModifiedBy>
  <dcterms:modified xsi:type="dcterms:W3CDTF">2010-07-13T07:16:20Z</dcterms:modified>
  <cp:revision>128</cp:revision>
  <dc:subject/>
  <dc:title>PowerPoint Presentation</dc:title>
</cp:coreProperties>
</file>